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141-E095-4C3C-AF15-8DAF4016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495-4BC4-475E-88FF-E27BB9A1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0B7-B0E3-46A5-8A8F-822C171F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735-C126-4E5B-8894-26C54D7C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12D-1753-4378-9182-2943CBA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A37-A2EC-4037-A431-9A3CE9E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C6F-EE65-4396-98A0-0B17422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5F5-B6D2-4366-A4A2-2088090F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4CE-F718-4311-B4FB-D4C431A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C21-8257-4084-A38F-2983619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2AA-E31B-49D0-A5CF-9EFDD34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A8B-F05E-434A-ADBA-80C49F1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BA15-06F7-46DB-B190-0D9728483B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00120" y="1413000"/>
            <a:ext cx="7643880" cy="408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19.10.1918 roku w Cieszy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ążyła do przejęcia władzy na terenach byłego Księstwa Cieszyńskiego po upadku Cesarstwa Austro-Węgi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grudniu 1918 powołała Tymczasowy Rząd Krajowy Księstwa Cieszyń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okresie walk pomiędzy wojskiem polskim i oddziałami czechosłowackimi na początku 1919 dążyła, przy wsparciu sił alianckich, do przeprowadzenia plebiscytu na spornych terytori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obliczu niemożności rozwiązania konfliktu oraz po przejęciu części spornych terenów Śląska Cieszyńskiego przez polską administrację centralną, w lipcu 1920 roku uległa rozwiąz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42Z</dcterms:created>
  <dc:creator>rena</dc:creator>
  <dc:description/>
  <dc:language>en-US</dc:language>
  <cp:lastModifiedBy>IB</cp:lastModifiedBy>
  <dcterms:modified xsi:type="dcterms:W3CDTF">2013-03-14T17:24:50Z</dcterms:modified>
  <cp:revision>7</cp:revision>
  <dc:subject/>
  <dc:title>Rada Narodowa Księstwa Cieszyńskiego</dc:title>
</cp:coreProperties>
</file>